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3F14-F012-496D-854B-A0E63032A2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5250-9641-4052-81FB-97AABFF4E5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3F8C-F18C-4E28-9F70-214B9E4246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1E5D-A597-4EB9-928C-E0E0698D0F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1EE4-7D80-4B69-869A-E73E53E702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21FA-2D55-4DB1-81DD-4BFAFEE5D6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A6A6-4E16-4B22-9367-1397F985E3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36A5-455B-466A-AC36-4C7DBBCCAF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EF3F-0CEE-432A-B3F0-CC764B16A8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164C-52A8-4D8F-A316-F834B77E40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16F3-ACC2-4B77-A214-B1FC899B7E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CEED-B29D-4522-B6A0-37EA2EB8A0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E25B-AF78-41D9-8A57-841F9283B9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30FC-ADD1-4A89-A5BF-6A2885BF77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686D-1859-443A-AD7C-ACF2672DA0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7958-9AED-41EA-AFA9-D4EC35A834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B0E6-17AD-4959-8E13-42F65C411E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4C64-42AD-4B9B-98BC-CF42A1EFDB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C24E-A9E5-4A8E-9010-FC902DD6DD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6C5A-E2D9-417B-B32D-C6B3828B6E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F510-D19D-49B2-B28A-EC1EF734E8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D140-4AC0-47B5-822A-78065B66EE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D22B-4884-4DDE-9C4A-399BCEA681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8385-008E-4B06-B999-43E89853E4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CD51-18E3-4AD5-A0B6-D1F11F45FC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C87F-2830-431E-9548-C9C9AD66DC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AAF3-37A3-452D-8C5F-7C7518441D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FD8A-7386-4A32-A01E-50B8F31CA7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5C65-0FB0-45FB-874D-C4D44DB03B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E91F-6004-4895-8AB6-D585499A5E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8B64-C315-4BBC-92E5-8084285678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CCCD-02F9-4117-A940-F496F83481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66BD-DE84-4354-BBB9-04EB68ED0D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258-A8E6-4B1F-9E4A-31F490EB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AAA-BB84-4CCB-ACB4-64754177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9A7-3FF3-4C34-A0F5-94805822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5141-D283-4F82-BF9D-60AD2E26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989-F28A-414B-B0C8-5F045A68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F19-A4BE-4A0E-9085-B14155F4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BCB-84FB-4D9C-85E4-3891B143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FE1-C0ED-45C6-9051-96A3D5B0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85B7-ECE5-4208-BEF7-89A9597B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3AD-5815-4602-B339-4A0B7365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09D-6A91-49B5-B43C-555DE926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3C9-FBA6-4394-967F-E7D6FEB9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9A40-AF49-4CB3-BAB3-FC4BAF7E71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filial29\Рабочий стол\мероприятие 22.04.2010\ДЕТИ\дети сталинграда\фото\972377218.jpg"/>
          <p:cNvPicPr/>
          <p:nvPr/>
        </p:nvPicPr>
        <p:blipFill>
          <a:blip r:embed="rId1"/>
          <a:stretch/>
        </p:blipFill>
        <p:spPr>
          <a:xfrm>
            <a:off x="785880" y="214200"/>
            <a:ext cx="7643880" cy="6357960"/>
          </a:xfrm>
          <a:prstGeom prst="rect">
            <a:avLst/>
          </a:prstGeom>
          <a:ln w="0">
            <a:noFill/>
          </a:ln>
        </p:spPr>
      </p:pic>
      <p:pic>
        <p:nvPicPr>
          <p:cNvPr id="49" name="астафьев1.mid" descr=""/>
          <p:cNvPicPr/>
          <p:nvPr/>
        </p:nvPicPr>
        <p:blipFill>
          <a:blip r:embed="rId2"/>
          <a:stretch/>
        </p:blipFill>
        <p:spPr>
          <a:xfrm>
            <a:off x="21420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дети войны 4"/>
          <p:cNvPicPr/>
          <p:nvPr/>
        </p:nvPicPr>
        <p:blipFill>
          <a:blip r:embed="rId1"/>
          <a:stretch/>
        </p:blipFill>
        <p:spPr>
          <a:xfrm>
            <a:off x="317520" y="333360"/>
            <a:ext cx="8375760" cy="61912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81080" y="6564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дети войны 5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14240" y="333360"/>
            <a:ext cx="7572600" cy="6048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247680" y="62308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filial29\Рабочий стол\мероприятие 22.04.2010\ДЕТИ\дети сталинграда\фото\b4e73a813eee.jpg"/>
          <p:cNvPicPr/>
          <p:nvPr/>
        </p:nvPicPr>
        <p:blipFill>
          <a:blip r:embed="rId1"/>
          <a:stretch/>
        </p:blipFill>
        <p:spPr>
          <a:xfrm>
            <a:off x="762120" y="399960"/>
            <a:ext cx="761976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сталинград21"/>
          <p:cNvPicPr/>
          <p:nvPr/>
        </p:nvPicPr>
        <p:blipFill>
          <a:blip r:embed="rId1"/>
          <a:stretch/>
        </p:blipFill>
        <p:spPr>
          <a:xfrm>
            <a:off x="317520" y="333360"/>
            <a:ext cx="850896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Новый ри_3.tmp"/>
          <p:cNvPicPr/>
          <p:nvPr/>
        </p:nvPicPr>
        <p:blipFill>
          <a:blip r:embed="rId1"/>
          <a:stretch/>
        </p:blipFill>
        <p:spPr>
          <a:xfrm>
            <a:off x="695160" y="407880"/>
            <a:ext cx="797256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Documents and Settings\filial29\Рабочий стол\мероприятие 22.04.2010\ДЕТИ\дети сталинграда\фото\1_1241798179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85880" y="500040"/>
            <a:ext cx="7358040" cy="58579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3" descr="C:\Documents and Settings\filial29\Рабочий стол\мероприятие 22.04.2010\ДЕТИ\дети сталинграда\фото\эвакуация.jpg"/>
          <p:cNvPicPr/>
          <p:nvPr/>
        </p:nvPicPr>
        <p:blipFill>
          <a:blip r:embed="rId1"/>
          <a:stretch/>
        </p:blipFill>
        <p:spPr>
          <a:xfrm>
            <a:off x="762120" y="673200"/>
            <a:ext cx="7881840" cy="5756040"/>
          </a:xfrm>
          <a:prstGeom prst="rect">
            <a:avLst/>
          </a:prstGeom>
          <a:ln w="0">
            <a:noFill/>
          </a:ln>
        </p:spPr>
      </p:pic>
      <p:pic>
        <p:nvPicPr>
          <p:cNvPr id="75" name="астафьев1.mid" descr=""/>
          <p:cNvPicPr/>
          <p:nvPr/>
        </p:nvPicPr>
        <p:blipFill>
          <a:blip r:embed="rId2"/>
          <a:stretch/>
        </p:blipFill>
        <p:spPr>
          <a:xfrm>
            <a:off x="428760" y="64292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filial29\Рабочий стол\мероприятие 22.04.2010\ДЕТИ\дети сталинграда\фото\расстрелянные фашистами мать и дети.jpeg"/>
          <p:cNvPicPr/>
          <p:nvPr/>
        </p:nvPicPr>
        <p:blipFill>
          <a:blip r:embed="rId1"/>
          <a:stretch/>
        </p:blipFill>
        <p:spPr>
          <a:xfrm>
            <a:off x="928800" y="357120"/>
            <a:ext cx="7429320" cy="61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filial29\Рабочий стол\ветераны\алек ник\дети войны\ребенок.jpg"/>
          <p:cNvPicPr/>
          <p:nvPr/>
        </p:nvPicPr>
        <p:blipFill>
          <a:blip r:embed="rId1"/>
          <a:stretch/>
        </p:blipFill>
        <p:spPr>
          <a:xfrm>
            <a:off x="1571760" y="571680"/>
            <a:ext cx="6858000" cy="58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filial29\Рабочий стол\мероприятие 22.04.2010\ДЕТИ\дети сталинграда\фото\72.jpg"/>
          <p:cNvPicPr/>
          <p:nvPr/>
        </p:nvPicPr>
        <p:blipFill>
          <a:blip r:embed="rId1"/>
          <a:stretch/>
        </p:blipFill>
        <p:spPr>
          <a:xfrm>
            <a:off x="1000080" y="571680"/>
            <a:ext cx="7286760" cy="57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filial29\Рабочий стол\мероприятие 22.04.2010\ДЕТИ\дети сталинграда\фото\89dd8f6ae54b.jpg"/>
          <p:cNvPicPr/>
          <p:nvPr/>
        </p:nvPicPr>
        <p:blipFill>
          <a:blip r:embed="rId1"/>
          <a:stretch/>
        </p:blipFill>
        <p:spPr>
          <a:xfrm>
            <a:off x="428760" y="357120"/>
            <a:ext cx="8313480" cy="61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filial29\Рабочий стол\мероприятие 22.04.2010\ДЕТИ\дети сталинграда\фото\5efbf7ce1178.jpg"/>
          <p:cNvPicPr/>
          <p:nvPr/>
        </p:nvPicPr>
        <p:blipFill>
          <a:blip r:embed="rId1"/>
          <a:stretch/>
        </p:blipFill>
        <p:spPr>
          <a:xfrm>
            <a:off x="714240" y="428760"/>
            <a:ext cx="7786800" cy="61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filial29\Рабочий стол\мероприятие 22.04.2010\ДЕТИ\дети сталинграда\фото\мы были в аду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filial29\Рабочий стол\мероприятие 22.04.2010\ДЕТИ\дети сталинграда\фото\photoarch100.jpg"/>
          <p:cNvPicPr/>
          <p:nvPr/>
        </p:nvPicPr>
        <p:blipFill>
          <a:blip r:embed="rId1"/>
          <a:stretch/>
        </p:blipFill>
        <p:spPr>
          <a:xfrm>
            <a:off x="857160" y="571680"/>
            <a:ext cx="76438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C:\Documents and Settings\filial29\Рабочий стол\ветераны\алек ник\дети войны\разруха.jpg"/>
          <p:cNvPicPr/>
          <p:nvPr/>
        </p:nvPicPr>
        <p:blipFill>
          <a:blip r:embed="rId1"/>
          <a:stretch/>
        </p:blipFill>
        <p:spPr>
          <a:xfrm>
            <a:off x="642960" y="428760"/>
            <a:ext cx="785808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filial29\Рабочий стол\ветераны\алек ник\дети войны\сожгла хату.jpg"/>
          <p:cNvPicPr/>
          <p:nvPr/>
        </p:nvPicPr>
        <p:blipFill>
          <a:blip r:embed="rId1"/>
          <a:stretch/>
        </p:blipFill>
        <p:spPr>
          <a:xfrm>
            <a:off x="714240" y="428760"/>
            <a:ext cx="7667640" cy="59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filial29\Рабочий стол\ветераны\алек ник\дети войны\плач.jpg"/>
          <p:cNvPicPr/>
          <p:nvPr/>
        </p:nvPicPr>
        <p:blipFill>
          <a:blip r:embed="rId1"/>
          <a:stretch/>
        </p:blipFill>
        <p:spPr>
          <a:xfrm>
            <a:off x="785880" y="285840"/>
            <a:ext cx="7643880" cy="62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Documents and Settings\filial29\Рабочий стол\ветераны\алек ник\дети войны\из землянки.jpg"/>
          <p:cNvPicPr/>
          <p:nvPr/>
        </p:nvPicPr>
        <p:blipFill>
          <a:blip r:embed="rId1"/>
          <a:stretch/>
        </p:blipFill>
        <p:spPr>
          <a:xfrm>
            <a:off x="1403280" y="338040"/>
            <a:ext cx="6811920" cy="618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filial29\Рабочий стол\ветераны\алек ник\дети войны\дети.jpg"/>
          <p:cNvPicPr/>
          <p:nvPr/>
        </p:nvPicPr>
        <p:blipFill>
          <a:blip r:embed="rId1"/>
          <a:stretch/>
        </p:blipFill>
        <p:spPr>
          <a:xfrm>
            <a:off x="928800" y="285840"/>
            <a:ext cx="735804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filial29\Рабочий стол\мероприятие 22.04.2010\ДЕТИ\дети сталинграда\фото\file.jpeg"/>
          <p:cNvPicPr/>
          <p:nvPr/>
        </p:nvPicPr>
        <p:blipFill>
          <a:blip r:embed="rId1"/>
          <a:stretch/>
        </p:blipFill>
        <p:spPr>
          <a:xfrm>
            <a:off x="571680" y="357120"/>
            <a:ext cx="8001000" cy="614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filial29\Рабочий стол\мероприятие 22.04.2010\ДЕТИ\дети сталинграда\фото\ludi3.jpg"/>
          <p:cNvPicPr/>
          <p:nvPr/>
        </p:nvPicPr>
        <p:blipFill>
          <a:blip r:embed="rId1"/>
          <a:stretch/>
        </p:blipFill>
        <p:spPr>
          <a:xfrm>
            <a:off x="500040" y="428760"/>
            <a:ext cx="8001000" cy="61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285840" y="285840"/>
            <a:ext cx="835812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данным Государственного Архива Волгоградской обла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 начала войны проживало около 200 000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угнано фашистами в рабство – около 2 000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31 ребенок погиб от бомбеже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стреляно – 207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 как же ТЕ дети, которые уцеле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м образом, благодаря чему им удалось Выжи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filial29\Рабочий стол\мероприятие 22.04.2010\ДЕТИ\дети сталинграда\фото\ludi2.jpg"/>
          <p:cNvPicPr/>
          <p:nvPr/>
        </p:nvPicPr>
        <p:blipFill>
          <a:blip r:embed="rId1"/>
          <a:stretch/>
        </p:blipFill>
        <p:spPr>
          <a:xfrm>
            <a:off x="1714680" y="623880"/>
            <a:ext cx="5500440" cy="57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filial29\Рабочий стол\мероприятие 22.04.2010\ДЕТИ\дети сталинграда\фото\post-33079-1265369546.jpg"/>
          <p:cNvPicPr/>
          <p:nvPr/>
        </p:nvPicPr>
        <p:blipFill>
          <a:blip r:embed="rId1"/>
          <a:stretch/>
        </p:blipFill>
        <p:spPr>
          <a:xfrm>
            <a:off x="785880" y="500040"/>
            <a:ext cx="7504200" cy="57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filial29\Рабочий стол\ветераны\алек ник\дети войны\беженцы.jpg"/>
          <p:cNvPicPr/>
          <p:nvPr/>
        </p:nvPicPr>
        <p:blipFill>
          <a:blip r:embed="rId1"/>
          <a:stretch/>
        </p:blipFill>
        <p:spPr>
          <a:xfrm>
            <a:off x="539640" y="687240"/>
            <a:ext cx="8104320" cy="545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filial29\Рабочий стол\мероприятие 22.04.2010\ДЕТИ\дети сталинграда\фото\557.jpg"/>
          <p:cNvPicPr/>
          <p:nvPr/>
        </p:nvPicPr>
        <p:blipFill>
          <a:blip r:embed="rId1"/>
          <a:stretch/>
        </p:blipFill>
        <p:spPr>
          <a:xfrm>
            <a:off x="785880" y="357120"/>
            <a:ext cx="7643880" cy="617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filial29\Рабочий стол\мероприятие 22.04.2010\ДЕТИ\дети сталинграда\фото\106900392.jpg"/>
          <p:cNvPicPr/>
          <p:nvPr/>
        </p:nvPicPr>
        <p:blipFill>
          <a:blip r:embed="rId1"/>
          <a:stretch/>
        </p:blipFill>
        <p:spPr>
          <a:xfrm>
            <a:off x="1143000" y="428760"/>
            <a:ext cx="7000920" cy="61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дети войны1"/>
          <p:cNvPicPr/>
          <p:nvPr/>
        </p:nvPicPr>
        <p:blipFill>
          <a:blip r:embed="rId1"/>
          <a:stretch/>
        </p:blipFill>
        <p:spPr>
          <a:xfrm>
            <a:off x="517680" y="549360"/>
            <a:ext cx="810864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дети войны 2"/>
          <p:cNvPicPr/>
          <p:nvPr/>
        </p:nvPicPr>
        <p:blipFill>
          <a:blip r:embed="rId1"/>
          <a:stretch/>
        </p:blipFill>
        <p:spPr>
          <a:xfrm>
            <a:off x="317520" y="333360"/>
            <a:ext cx="8375760" cy="618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дети войны 3"/>
          <p:cNvPicPr/>
          <p:nvPr/>
        </p:nvPicPr>
        <p:blipFill>
          <a:blip r:embed="rId1"/>
          <a:stretch/>
        </p:blipFill>
        <p:spPr>
          <a:xfrm>
            <a:off x="384120" y="476280"/>
            <a:ext cx="830916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filial29\Рабочий стол\мероприятие 22.04.2010\ДЕТИ\дети сталинграда\фото\106897611.jpg"/>
          <p:cNvPicPr/>
          <p:nvPr/>
        </p:nvPicPr>
        <p:blipFill>
          <a:blip r:embed="rId1"/>
          <a:stretch/>
        </p:blipFill>
        <p:spPr>
          <a:xfrm>
            <a:off x="714240" y="357120"/>
            <a:ext cx="8001000" cy="621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09:08:06Z</dcterms:created>
  <dc:creator>csgb</dc:creator>
  <dc:description/>
  <dc:language>en-US</dc:language>
  <cp:lastModifiedBy>User</cp:lastModifiedBy>
  <dcterms:modified xsi:type="dcterms:W3CDTF">2015-02-27T07:30:40Z</dcterms:modified>
  <cp:revision>89</cp:revision>
  <dc:subject/>
  <dc:title>Слайд 1</dc:title>
</cp:coreProperties>
</file>